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B827-E00C-4756-AE4D-CE4A1F3CBF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0BF-C6FA-4E62-9178-B4DD6DE6BD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9B3E-5E3E-4BCF-946A-C6F1ED3586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13E-A2D0-4AF5-9923-77156B926D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89EC-36B9-4ADF-B5DD-05C2935F28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9A84-1303-4564-B7ED-3735833DC3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D133-F95C-4BC8-A930-FF01267DCB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F94-0390-42FF-8C54-DE47847C56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8DB-69E7-419E-8462-3102E3656C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30B-F093-4C80-A9B1-ABACD64C45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F71-31BC-4968-88ED-37575BC64C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DC0-471D-48AF-AC11-00580AC052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2C56-21BB-4C68-9CCA-09D45DD9F6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0A1-3284-4CED-ABD4-88FB46FE1C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89F-2406-47AA-858F-5CCCDA3BE2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169B-D0CC-4988-8BDA-1B25F136E3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CB0-46BF-4721-BF9F-18DF966862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0AB-B42C-4994-9800-D5EDAE9DC3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3D1-979F-49A3-829F-5EB5BE8A64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8D8-0474-40ED-B39B-C67A648FA8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7C48-BE78-4BC0-8F52-BA86D692AC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CF9C-2C71-4D04-92E7-427F314920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4AF2-7A44-4EC8-8B67-720CA4E748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E93-E8F4-4346-AD8D-F0D630076C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EDC-F5FB-43F5-8E90-CC4A056103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406-CD16-4513-A728-EBEF9263BA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5949-76F9-48A0-B2B5-387333B665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022B-D444-4921-8F33-F362C305D4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467-DBA1-4E16-B4EE-839996064A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F7A-0325-49D3-A0A5-C192EB1AAC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29E-E35B-4577-B161-59A2D51299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757D-AD84-411A-A65D-6242C17C30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28CF-4EF4-487E-9983-8E7520CB20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B318-BD0B-4BA7-9760-6E641806A9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1A4-4018-491C-B304-15C2F2D905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215-D897-4B49-9395-6BEEAA5A0B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0C2D-FAB8-44A0-B76F-A4478B4E83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945-FAD3-48A1-A7ED-498CEF384C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0A90-B7F6-4949-BB56-FDC2ED5F97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EDAD-8662-43E9-8825-0D618B5EC4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3F4-F6FB-442D-8538-1828B7F7AC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BB7-0A23-4EC6-B0BC-E84672516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0ED-9FA3-415E-BDFF-8650B3E995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6479-09F7-40EB-B441-A463716E7F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3B46-B4BD-4291-9A86-978334986D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943-7161-42BE-9DAD-F95D6ED4B2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251-9C92-4BDB-ACAE-D904E04F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C6E-F6EB-40F7-8937-FA1833E6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B2B-205F-41A3-B119-2622A3E4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5BB-7920-4EFA-AEC8-49A4FD60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A27-5DBE-498A-B189-A24D40E7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F29-BEE7-4F9D-9872-732F27A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40A-4E21-46C8-B6D6-B7AB072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375-828B-4565-9E0F-C61F6C68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00C-D296-4739-9CE4-679D1351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A0D-2AE4-49A3-9C8A-83BDC5A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535-0537-4B9D-B4CF-FA1EB1B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7CB-27A3-4910-B1AD-7717806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CA8-D5A3-47C4-88EF-7AA937EE0E4F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개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다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또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椅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钥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àosh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열쇠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去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qùn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작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곡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ē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노래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곡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듣기 좋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덩어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조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ǒubiǎo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목시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주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보내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우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스타일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디자인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原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uánl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터넷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0" spc="-1" strike="noStrike">
                <a:solidFill>
                  <a:srgbClr val="000000"/>
                </a:solidFill>
                <a:latin typeface="Arial"/>
              </a:rPr>
              <a:t>百货商店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Bǎihuò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shāngdiàn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백화점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è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들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请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ǐngji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휴가를 신청하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196600"/>
            <a:ext cx="638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600" spc="-1" strike="noStrike">
                <a:solidFill>
                  <a:srgbClr val="000000"/>
                </a:solidFill>
                <a:latin typeface="Arial"/>
              </a:rPr>
              <a:t>에 비해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6600" spc="-1" strike="noStrike">
                <a:solidFill>
                  <a:srgbClr val="000000"/>
                </a:solidFill>
                <a:latin typeface="Arial"/>
              </a:rPr>
              <a:t>보다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合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é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알맞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꾸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成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héngj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성적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짙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hu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망가지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但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àn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러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价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g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iǎo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작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优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ōu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혜택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ē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잔을 세는 양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4940280"/>
            <a:ext cx="6381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부피가 크거나 고정된 물체를 세는 양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차량을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파랗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방을 세는 양사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í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병을 세는 양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근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무게를 세는 양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기계를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4962240"/>
            <a:ext cx="638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그림이나 천으로 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것을 세는 양사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ù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79564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끼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식사를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ùr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만 못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ǜ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푸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k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예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à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러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欢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huānyí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환영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7:32:59Z</dcterms:created>
  <dc:creator>System</dc:creator>
  <dc:description/>
  <dc:language>en-US</dc:language>
  <cp:lastModifiedBy>System</cp:lastModifiedBy>
  <dcterms:modified xsi:type="dcterms:W3CDTF">2014-01-28T04:12:58Z</dcterms:modified>
  <cp:revision>6</cp:revision>
  <dc:subject/>
  <dc:title>슬라이드 1</dc:title>
</cp:coreProperties>
</file>